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AEEA-9C47-4AB3-B2D2-43D09FF6F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833C-0300-4BB0-8EE7-E06CFACCD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B969-068A-4A4B-B856-1F9315AFB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90C6-B2A7-415E-8585-94D5D5614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1543-FF69-485E-BB0E-916AD1244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8C48-3710-41BD-9E64-FDEE5F28F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E78E-073B-4C60-8B3F-224F20B44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921D-BC63-4C6B-B351-7A19151B0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28DD-EECB-4F78-849B-0C02035F3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EE4C-56C5-48F6-A8CD-4182E9A1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E8D1-C5A1-4025-8DBF-062E09C3E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30B2-6356-4143-B0BD-5D4205D2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FADEE-38A2-43C7-97D3-655622DF02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’ANOREX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ar Aman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Isabelle-caro-anorexia-_14-305x383.jpg"/>
          <p:cNvPicPr/>
          <p:nvPr/>
        </p:nvPicPr>
        <p:blipFill>
          <a:blip r:embed="rId1"/>
          <a:stretch/>
        </p:blipFill>
        <p:spPr>
          <a:xfrm>
            <a:off x="3352680" y="3124080"/>
            <a:ext cx="2133720" cy="26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s Definitions pour l’anorex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L’anorexie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est un symptôme observé en médecine qui correspond à une perte répétée de l’appét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L’anorexie mentale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est la perte ou la diminution d’appétit se situant au niveau des troubles psychotiqu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es deux sont tres tres mauvais pour vou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Un beacoup des personne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urent d’anorex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ment peux tu determinier, physiquemen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3581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Les personnes voient mince extrêm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Les personnes ne mangent pas beauco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Anorexi_jpg1_.jpg"/>
          <p:cNvPicPr/>
          <p:nvPr/>
        </p:nvPicPr>
        <p:blipFill>
          <a:blip r:embed="rId1"/>
          <a:stretch/>
        </p:blipFill>
        <p:spPr>
          <a:xfrm>
            <a:off x="5029200" y="1676520"/>
            <a:ext cx="297180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ment peux tu determinier, mentalement et comportemen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s personnes ne fait pas pensee ils ou elles sont mince extrême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s personnes exercent beaucoup et sont hyperactivit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es personnes ont les situations de conflits avec l’entourage famili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s Pourcent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038120" y="1295280"/>
            <a:ext cx="4876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’anorexia se traduit par une perte de poids extrême atteignant jusqu’à 50% du poids norm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nviron 3 % des femmes seront affectées par un trouble de l'alimentation au cours de leur vi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3768-anorexie-1.jpg"/>
          <p:cNvPicPr/>
          <p:nvPr/>
        </p:nvPicPr>
        <p:blipFill>
          <a:blip r:embed="rId1"/>
          <a:stretch/>
        </p:blipFill>
        <p:spPr>
          <a:xfrm>
            <a:off x="685800" y="1523880"/>
            <a:ext cx="28195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 factors de risques biolog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6840" y="1600200"/>
            <a:ext cx="3886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’hérédité, les antécédents familiaux de dépression, d’anxiété, de troubles de l’alimentation et les problèmes de poi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external image hope-for-anorexia1.jpg"/>
          <p:cNvPicPr/>
          <p:nvPr/>
        </p:nvPicPr>
        <p:blipFill>
          <a:blip r:embed="rId1"/>
          <a:stretch/>
        </p:blipFill>
        <p:spPr>
          <a:xfrm>
            <a:off x="3276720" y="1523880"/>
            <a:ext cx="4667040" cy="27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s facteurs de risques sociau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335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es relations difficiles avec la famille ou groupe de pairs, un manque de soutien, la tendance à juger de la valeur d’une personne selon son apparence physique, les sports et les occupations axées sur l’apparence et le poids ainsi que les pressions socioculturelles envers la minceu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 factors de risques Psychologiques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une faible estime de soi, la sensation de ne pas être à la hauteur, le manque de contrôle, la solitude et la colè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Anorexic-Model.jpg"/>
          <p:cNvPicPr/>
          <p:nvPr/>
        </p:nvPicPr>
        <p:blipFill>
          <a:blip r:embed="rId1"/>
          <a:stretch/>
        </p:blipFill>
        <p:spPr>
          <a:xfrm>
            <a:off x="5029200" y="1676520"/>
            <a:ext cx="25430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12:17:46Z</dcterms:created>
  <dc:creator>EHT</dc:creator>
  <dc:description/>
  <dc:language>en-US</dc:language>
  <cp:lastModifiedBy>Fernanda</cp:lastModifiedBy>
  <dcterms:modified xsi:type="dcterms:W3CDTF">2013-01-13T19:29:41Z</dcterms:modified>
  <cp:revision>7</cp:revision>
  <dc:subject/>
  <dc:title>L’ANOREXIE</dc:title>
</cp:coreProperties>
</file>